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4D51-1189-4033-830B-BE9B8B74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9C44-C968-4961-A4A3-8B270920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B501-4654-4A09-9E46-ADDBC2D0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C594-5C51-4E64-9A40-CD9447B5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FA2B-23C9-4ECD-9348-BD012E30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CB07-F6EB-43E3-9874-60953EBC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C85C-BA71-46A2-8AB4-AA017E4E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E4A3-B80B-4F88-B526-050D8167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EEA2-8F6E-47AD-9079-9B62FD95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C73B-83E2-4280-9740-0396E8AD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60FA-4C9C-44EC-A4D8-F46E59D8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C437-005F-4F03-9DD4-774773C5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7319-7E84-4051-8E6C-2880A7B0FA06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ustom footer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2591-F917-43F6-A04A-4CFBC83BBCB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5:13:36Z</dcterms:created>
  <dc:creator>VBOX</dc:creator>
  <dc:description/>
  <dc:language>en-US</dc:language>
  <cp:lastModifiedBy>Massimo Rimondini</cp:lastModifiedBy>
  <dcterms:modified xsi:type="dcterms:W3CDTF">2016-06-27T20:48:44Z</dcterms:modified>
  <cp:revision>93</cp:revision>
  <dc:subject/>
  <dc:title>Diapositiva 1</dc:title>
</cp:coreProperties>
</file>