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EEC-2AF3-43E4-BF0A-CD8C38E6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040" y="3796200"/>
            <a:ext cx="8191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C75-AAB5-4B66-8C4E-617009C5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640" y="144792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040" y="379620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640" y="379620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BC3-8560-4CEA-AB90-01DDBB05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263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9520" y="1447920"/>
            <a:ext cx="263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9360" y="1447920"/>
            <a:ext cx="263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040" y="3796200"/>
            <a:ext cx="263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9520" y="3796200"/>
            <a:ext cx="263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9360" y="3796200"/>
            <a:ext cx="2637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4CE-9380-491A-A86B-87BF00A4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D6E-2E51-4921-B9A2-9C82570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FD2-C2C0-4216-A599-74BE631C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399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640" y="1447920"/>
            <a:ext cx="399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A45-33E8-475D-AE2C-10B4C485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6F8-247D-4AFC-A913-835A373F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228240"/>
            <a:ext cx="8134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F77-6D7D-4675-BDF4-A2FEEAC0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640" y="1447920"/>
            <a:ext cx="399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040" y="379620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40A-1A1B-4A43-99A0-D377E81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399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640" y="144792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640" y="379620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328-78C3-41B8-80C1-A5807E17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640" y="1447920"/>
            <a:ext cx="3997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040" y="3796200"/>
            <a:ext cx="8191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01C-BEB0-49B2-8BC2-15B5C49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2780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01F0-80CB-4201-8A51-B10D2B0DF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asi di dati e XML</a:t>
            </a:r>
            <a:br>
              <a:rPr sz="40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una prospettiva accademica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olo Atz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à Roma 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/10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ecnologie XML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4017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e D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3880" y="1447920"/>
            <a:ext cx="4017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9C2-5B89-4AE1-8967-DFFFAEB81DA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ommario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: origini e diffu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 di dati ieri e oggi: risultati e nuove esi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risposta: basi di dati e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36A-D991-4B31-9480-BC42582D05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dur="indefinite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1" dur="indefinite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2" dur="indefinite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asi di dati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. Atzeni, S. Ceri, S. Paraboschi, R. Torlone </a:t>
            </a:r>
            <a:br>
              <a:rPr sz="20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i di dati: modelli e linguaggi di interrogazione, </a:t>
            </a:r>
            <a:br>
              <a:rPr sz="24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conda edizion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cGraw-Hill Italia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. Atzeni, S. Ceri, P. Fraternali, S. Paraboschi, R. Torlone </a:t>
            </a:r>
            <a:br>
              <a:rPr sz="20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i di dati: architetture e linee di evoluzione</a:t>
            </a:r>
            <a:br>
              <a:rPr sz="24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cGraw-Hill Italia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03640" y="1295280"/>
            <a:ext cx="3195720" cy="4648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90400" y="1295280"/>
            <a:ext cx="326880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66F-594C-4E6C-9BA6-5761775079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a50021"/>
                </a:solidFill>
                <a:latin typeface="Arial"/>
              </a:rPr>
              <a:t>Base di dati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sieme d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div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a risorsa "pregiata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E72-A496-4981-885E-E9F6E81F7C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a50021"/>
                </a:solidFill>
                <a:latin typeface="Arial"/>
              </a:rPr>
              <a:t>DataBase Management System (DBMS)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stema che gestisce basi di da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an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iste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di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rant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ivate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ffidabi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ci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c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246-AA14-485D-A705-6313FFC3B6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asi di dati: </a:t>
            </a: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"le magnifiche sorti e progressive"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organizzazione ha </a:t>
            </a:r>
            <a:r>
              <a:rPr b="1" lang="it-IT" sz="2400" spc="-1" strike="noStrike" u="sng">
                <a:solidFill>
                  <a:srgbClr val="a50021"/>
                </a:solidFill>
                <a:uFillTx/>
                <a:latin typeface="Arial"/>
              </a:rPr>
              <a:t>u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ase di dati, che organizza tutti i dati di interesse in forma integrata e non ridonda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ascuna applicazione ha accesso a tutti i dati di proprio interesse, in tempo reale e senza duplicazione, riorganizzati secondo le proprie necessit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la bla bla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0CD-E031-416D-A34E-98FC8E6958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 spd="slow">
    <p:wipe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’obiettivo è praticabile?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altà è in continua evoluzione, non esiste uno “stato stazionario” (se non nell’iperurani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no le esi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ano le strut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ealizzazioni richiedon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coordinamento forte fra i vari settori può risultare controprodu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organizzazione ha di solito diverse (molte!) basi di dati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istrib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eroge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utonom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debbono essere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nteg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almeno cooper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79A-FB5F-44E4-88B6-F68C9E9A0B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 spd="slow"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a50021"/>
                </a:solidFill>
                <a:latin typeface="Arial"/>
              </a:rPr>
              <a:t>A ten-year goal for database research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“Asilomar report”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ernstein et al. Sigmod Record 1999 www.acm.org/sigm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a50021"/>
                </a:solidFill>
                <a:latin typeface="Arial"/>
              </a:rPr>
              <a:t>The information utility:</a:t>
            </a:r>
            <a:br>
              <a:rPr sz="2400"/>
            </a:br>
            <a:r>
              <a:rPr b="1" i="1" lang="it-IT" sz="2400" spc="-1" strike="noStrike">
                <a:solidFill>
                  <a:srgbClr val="a50021"/>
                </a:solidFill>
                <a:latin typeface="Arial"/>
              </a:rPr>
              <a:t>make it easy for everyone to store, organize, access, and analyze the majority of human information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A90-B649-45A2-BB4C-DA9AF45ABC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asi di dati e informazioni: un problema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ggior parte delle informazioni di interesse non sono nelle basi di da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i non struttu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, siti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 carta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772-8B36-450F-9826-698F6B6AA8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asi di dati relazionali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basi di dati sono nate per le "applicazioni gestionali",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za, condivisione, affid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i a struttura semplice, con dati di tipo numerico/simbo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zioni concorrenti di breve durata (OL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ogazioni complesse, espresse mediante linguaggi dichiarativi e con accesso di tipo “associativ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ti dati e informazioni non hanno queste caratter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5DE-E57A-41E5-82A6-34BDBA0CD5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ommario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: origini e diffu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 di dati ieri e oggi: risultati e nuove esi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risposta: basi di dati e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71B-CC13-4796-A1F2-38FD2DB3C2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ree applicative con altre caratteristiche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 di doc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sti e automazione d’uf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i multimed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ettazione assistita da calcol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SE (Computer-Aided Software 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D (Computer-Aided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M (Computer-Aided Manufactu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ienza e 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nowled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B6D-8B9B-4DCC-BACA-FE771E7210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sempi di "nuove" applicazioni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base di dati con informazioni sui requisiti di adiacenza dei componenti di un chip e l'esigenza di funzioni di ottim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archivio di 40.000 fotografie, con didascalie, coordinate geografiche ed esigenze di interrogazioni comples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rova le foto con un tramonto scattate a Roma o dintorni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o sinistri di una compagnia assicurativa (con foto, grafici, luogo) finalizzato alla ricerca delle fr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89E-0B54-4060-8433-F2CCC97646D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aratteristiche delle nuove applicazioni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tre a persistenza, condivisione e affid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i a struttura compl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i non-numerici — immagini, dati spaziali, sequenze temporali,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i pre-definiti e tipi definiti dall'utente (e riutilizz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zioni esplicite ("semantiche") tra i dati (riferimenti), aggregazioni compl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zioni compl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he per i diversi tipi di dato — es. 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anche ai tipi definiti dall'u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517-CFED-44E1-B1B7-3121F4D1F3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Due problemi fondamentali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zione e coope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i dati "non tradizionali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764-F777-46BA-BB5A-255E765154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XML: una risposta?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esigenze di integ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o di inters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esigenze non tradizion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tture complesse e nid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905200"/>
            <a:ext cx="11558520" cy="395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libro editore="McGraw-Hill" pubblicazione="01/07/2002" formato="paperback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titolo&gt;Basi di dati: modelli e linguaggi di interrogazione&lt;/t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autore&gt; Paolo Atzeni&lt;/auto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autore&gt; Stefano Ceri &lt;/auto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autore&gt; Stefano Paraboschi&lt;/auto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autore&gt; Riccardo Torlone &lt;/auto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parte numero="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Il modello relazionale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Algebra e calcolo relazionale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SQL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SQL nei linguaggi di programmazione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/par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parte numero="2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Metodologie e modelli per il progetto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La progettazione concettuale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La progettazione logica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CF0-C64B-42D6-B900-7E9F004F3D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ommario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: origini e diffu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 di dati ieri e oggi: risultati e nuove esi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risposta: basi di dati e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D4A-9EBB-4037-8683-0094A2DCC4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8,-128,-128)"/>
                                      </p:to>
                                    </p:se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indefinit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1" dur="indefinit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42" dur="indefinite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3,0,-91)"/>
                                      </p:to>
                                    </p:set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Un inciso: basi di dati e Web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 di dati (relazional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tt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ogabili con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a strut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bile con un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remmo navigare le basi di dati e interrogare il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A98-BC39-4E5F-8424-8E72ED1AEB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asi di dati e XML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i di dati (relazional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rutt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rma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rogabili con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cumenti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mistruttu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rarchici e non normal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avigabili con browser, interrogabili con X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5440" y="5138640"/>
            <a:ext cx="737856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for $x IN document("libro.xml")//au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2565360"/>
            <a:ext cx="11558520" cy="395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libro editore="McGraw-Hill" pubblicazione="01/07/2002" formato="paperback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titolo&gt;Basi di dati: modelli e linguaggi di interrogazione&lt;/t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autore&gt; Paolo Atzeni&lt;/auto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autore&gt; Stefano Ceri &lt;/auto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autore&gt; Stefano Paraboschi&lt;/auto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autore&gt; Riccardo Torlone &lt;/auto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parte numero="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Il modello relazionale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Algebra e calcolo relazionale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SQL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SQL nei linguaggi di programmazione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/par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parte numero="2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Metodologie e modelli per il progetto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La progettazione concettuale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itolo&gt; La progettazione logica &lt;/capitol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689-DD97-4ADF-9867-9E0DD39F76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asi di dati e XML, vantaggi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si riesce a cogliere il meglio dei due mon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contestuale di dati tradizionali e dati non gestiti da basi di dati rela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o all'integrazione (XML è il formato di scamb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721-A040-4D52-9BB9-3E26437469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asi di dati relazionali e XML, difficoltà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memorizzare documenti XML in basi di dati relaziona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cci estre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mentare e normalizzare, perdendo la visione di insieme (e rischiando la degenerazione delle prestazioni per ricostru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zzare interi documenti come valori di singoli campi, perdendo la fles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ono approcci mirati e integ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B57-FFB7-4962-8C68-D1B6B856869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XML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igin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nguaggio d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rk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tivazione per l'esplosi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e per il "Web del futur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ero succ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assi per formati di ogni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59D-C819-4723-8D1F-07F0A74601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asi di dati e XML, che cosa serve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e integrazione, che cerchi di conciliare, senza compromessi, le varie esigenze e tecnologie, garantendo efficienza e affid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E22-3E29-45F4-9F96-03F65B33C8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a ricerca nel settore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ppi in tutto il mondo, università e laboratori indust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ona attività anche in Italia, solo nel mondo accade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zzazione e indicizzazione di documenti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cuzione delle interrogazioni su dati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zione (stretta o lasca, anche P2P) di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formazione di rappresen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97B-B885-4C05-A973-D0F3B6D6B9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asi di dati e XML:</a:t>
            </a: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una prospettiva accademica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olo Atz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à Roma 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/10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iginariamente, annotazioni manuali su manoscritti o dattiloscritti, rivolte ai compositori tipograf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l'automazione, veri e propri linguaggi che descrivono la formattazione di un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, molto diffuso nel mondo scientifico, 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l'avvento del Web, tutti abbiamo conosciuto un linguaggio di mark-up: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49400" y="1295280"/>
            <a:ext cx="7194600" cy="48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documentclass{articl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setlength {\topmargin}{-23m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newtheorem{domanda}{Doman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begin{documen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begin{center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{\large\bf Tecnologia delle basi di dati (ex Basi di dati, primo modulo)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25 settembre 2006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end{center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begin{domanda}\rm (25\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Considerare le seguenti richieste ricevute da un gestore del cont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di concorrenz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begin{center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(r_3(x),r_2(x),r_4(y),w_2(x),c_2,r_6(y),r_1(x),c_1,w_3(x),c_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w_4(y),c_4,w_7(x),c_7,w_6(y),c_6,r_5(x),c_5\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end{center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noindent Indicare possibili effetti del controllo della concorrenza (indi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cioè quali operazioni vengono eseg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e in quale ordine) prodotti da controllori dei due tipi principal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begin{enumerat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item basato su 2PL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item basato su timest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end{enumerat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\end{doman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9937800" cy="4195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a50021"/>
                </a:solidFill>
                <a:latin typeface="Arial"/>
              </a:rPr>
              <a:t>Linguaggi di </a:t>
            </a:r>
            <a:r>
              <a:rPr b="1" i="1" lang="it-IT" sz="3200" spc="-1" strike="noStrike">
                <a:solidFill>
                  <a:srgbClr val="a50021"/>
                </a:solidFill>
                <a:latin typeface="Arial"/>
              </a:rPr>
              <a:t>mark-up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49400" y="1295280"/>
            <a:ext cx="11558520" cy="35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title&gt;Paolo Atzeni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h1&gt;Paolo Atzeni&lt;/h1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b&gt;Dipartimento di Informatica e Automazione&lt;/b&gt;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i&gt;Universit&amp;agrave; Roma Tre&lt;/i&gt;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Via della Vasca Navale 79&amp;nbsp; 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00146 Roma, 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Tel 39-06-55.17.32.13&amp;nbs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x 39-06-557.30.30 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e-mail &lt;a href="mailto:atzeni@dia.uniroma3.it"&gt;atzeni@dia.uniroma3.it&lt;/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95240" y="367992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73280" y="1295280"/>
            <a:ext cx="6638760" cy="939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0400" y="4365720"/>
            <a:ext cx="8114040" cy="114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B72-5CC1-4E02-9BF6-1C7AD30545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imite di HTML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ve quasi solo le modalità di presentazione e non le informazioni in quanto 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Web basato su HTML è un'idea geniale, ma soprattutto per un uso prevalentemente individ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uso più sistematico richiede la separazione fra contenuto e presentazione, fra gestione e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49400" y="1295280"/>
            <a:ext cx="11558520" cy="35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title&gt;Paolo Atzeni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h1&gt;Paolo Atzeni&lt;/h1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b&gt;Dipartimento di Informatica e Automazione&lt;/b&gt;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i&gt;Universit&amp;agrave; Roma Tre&lt;/i&gt;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Via della Vasca Navale 79&amp;nbsp; 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00146 Roma, 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Tel 39-06-55.17.32.13&amp;nbs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Fax 39-06-557.30.30 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e-mail &lt;a href="mailto:atzeni@dia.uniroma3.it"&gt;atzeni@dia.uniroma3.it&lt;/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5240" y="36799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562-4134-4D2C-B451-1F411ECE67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Il Web del futuro secondo il W3C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esign Principles of the Web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The Web is an application built on top of the Internet and, as such, has inherited its fundamental design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volution: The Web must be able to accommodate future technolog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ecent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39040" y="6553080"/>
            <a:ext cx="26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ttp://www.w3.org/Consortiu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DC7-E524-421B-A9DA-0CC8B986E9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XML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ve le informazioni, non la presen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884240"/>
            <a:ext cx="1155852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h1&gt;Paolo Atzeni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b&gt;Dipartimento di Informatica e Automazione&lt;/b&gt;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i&gt;Universit&amp;agrave; Roma Tre&lt;/i&gt;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Via della Vasca Navale 79&amp;nbsp; 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00146 Roma, Ita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Tel 39-06-55.17.32.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Fax 39-06-557.30.30 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e-mail &lt;a href="mailto:atzeni@dia.uniroma3.it"&gt;atzeni@dia.uniroma3.it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3220920"/>
            <a:ext cx="11558520" cy="395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person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nome&gt;Paolo&lt;/no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ognome&gt;Atzeni&lt;/cogno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affiliazio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divisione&gt;Dipartimento di Informatica e Automazione&lt;/divisio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ente&gt;Università Roma Tre&lt;/en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indirizz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via&gt;Via della Vasca Navale&lt;/vi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numero&gt;79&lt;/numer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ap&gt;00146&lt;/ca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città&gt;Roma&lt;/città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/indirizz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&lt;/affiliazio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19D-006C-46A8-850A-25E9B60D41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XML nel Web del futuro (o presente)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67" name="" descr="Initial Web alongside the Web of tomorrow"/>
          <p:cNvPicPr/>
          <p:nvPr/>
        </p:nvPicPr>
        <p:blipFill>
          <a:blip r:embed="rId1"/>
          <a:stretch/>
        </p:blipFill>
        <p:spPr>
          <a:xfrm>
            <a:off x="971640" y="1295280"/>
            <a:ext cx="6913440" cy="495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39040" y="6553080"/>
            <a:ext cx="26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ttp://www.w3.org/Consortiu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155-02A9-48C4-8DC3-A40DDFB1B3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400" y="228240"/>
            <a:ext cx="813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Diffusione di XML (non solo nel Web)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040" y="1447920"/>
            <a:ext cx="8191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mato universale in tutti i settori dell’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cuni esemp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mato di scambio tra applic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mato di rappresentazione dati (standard in molti domini applicati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mato di rappresentazione documenti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word, spread-shee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mato di rappresentazione file di configu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. Atzeni - Basi di dati e XM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1C3-5ED8-4775-AC71-29530FB97D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0/2006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08:10:11Z</dcterms:created>
  <dc:creator/>
  <dc:description/>
  <dc:language>en-US</dc:language>
  <cp:lastModifiedBy>MP</cp:lastModifiedBy>
  <cp:lastPrinted>2000-09-30T09:09:40Z</cp:lastPrinted>
  <dcterms:modified xsi:type="dcterms:W3CDTF">2006-10-24T07:32:43Z</dcterms:modified>
  <cp:revision>149</cp:revision>
  <dc:subject/>
  <dc:title>Atzeni, Ceri, Paraboschi, Torlone Basi di dati McGraw-Hill, 1996-2002</dc:title>
</cp:coreProperties>
</file>